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3E3A6-0AD6-49B2-935B-B9AE0CE345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853740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240" y="3843720"/>
            <a:ext cx="853740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BA807-8D5A-43CA-B3FE-254702F6BE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36240" y="384372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0960" y="384372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35417-8D1F-4C17-A59B-56435D0833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23080" y="120024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9920" y="120024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36240" y="384372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23080" y="384372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9920" y="3843720"/>
            <a:ext cx="274896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CE5CD-1A1F-46E2-995B-F7083229E5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893CD-44C8-40E3-B29D-10598D7888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EEFFC-FFB0-4DDF-A827-B522C8E78A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E56B2-12E2-41EC-8A70-4AEEE88DA0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4A689-AE48-49EF-9375-4C58152D4C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4532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31DA0-4A90-4416-A34F-4A9FB06B40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36240" y="384372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99611-556C-4AD9-B0A9-1108E85E04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0960" y="384372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A524B-A7AA-4E39-9806-22A9D126D5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0960" y="1200240"/>
            <a:ext cx="416592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36240" y="3843720"/>
            <a:ext cx="8537400" cy="2413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75668-6AA0-42A7-9CB8-1D6A595A78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Click to edit the title text format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1" marL="174600" indent="-174600">
              <a:lnSpc>
                <a:spcPct val="90000"/>
              </a:lnSpc>
              <a:spcBef>
                <a:spcPts val="1800"/>
              </a:spcBef>
              <a:buClr>
                <a:srgbClr val="00336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2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3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Fourth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4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Fifth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5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Sixth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6" marL="174600" indent="-174600">
              <a:lnSpc>
                <a:spcPct val="90000"/>
              </a:lnSpc>
              <a:spcBef>
                <a:spcPts val="1800"/>
              </a:spcBef>
              <a:buClr>
                <a:srgbClr val="003e4c"/>
              </a:buClr>
              <a:buFont typeface="BTMedium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Seventh Outline Level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2" name=""/>
          <p:cNvSpPr/>
          <p:nvPr/>
        </p:nvSpPr>
        <p:spPr>
          <a:xfrm>
            <a:off x="76320" y="50760"/>
            <a:ext cx="9016920" cy="6756480"/>
          </a:xfrm>
          <a:prstGeom prst="rect">
            <a:avLst/>
          </a:prstGeom>
          <a:noFill/>
          <a:ln w="136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79880" y="627840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303840" y="6235560"/>
            <a:ext cx="138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d04bc"/>
                </a:solidFill>
                <a:latin typeface="BTExtraBold"/>
              </a:rPr>
              <a:t>Consult21</a:t>
            </a:r>
            <a:endParaRPr b="0" lang="en-US" sz="20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8244000" y="6308640"/>
            <a:ext cx="51408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8D96-F116-482C-8AA6-DB35D1D815A8}" type="slidenum">
              <a:rPr b="0" lang="en-US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908000" y="6237360"/>
            <a:ext cx="6604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BTMedium"/>
              </a:rPr>
              <a:t>Information is subject to change and is for discussion purposes only. 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e4c"/>
                </a:solidFill>
                <a:latin typeface="BTMedium"/>
              </a:rPr>
              <a:t>Any dates/timings are the current anticipated timescales and may be subject to change.</a:t>
            </a:r>
            <a:endParaRPr b="0" lang="en-US" sz="12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-108000" y="6453360"/>
            <a:ext cx="27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3e4c"/>
                </a:solidFill>
                <a:latin typeface="Arial"/>
              </a:rPr>
              <a:t>I&amp;M WG: MCC Experts</a:t>
            </a:r>
            <a:endParaRPr b="0" lang="en-US" sz="1600" spc="-1" strike="noStrike">
              <a:solidFill>
                <a:srgbClr val="003e4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335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Migration Command &amp; Control:</a:t>
            </a:r>
            <a:br>
              <a:rPr sz="3200"/>
            </a:b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Consultation Framework</a:t>
            </a:r>
            <a:br>
              <a:rPr sz="3200"/>
            </a:br>
            <a:r>
              <a:rPr b="1" lang="en-US" sz="3200" spc="-1" strike="noStrike">
                <a:solidFill>
                  <a:srgbClr val="003e4c"/>
                </a:solidFill>
                <a:latin typeface="BTExtraBold"/>
              </a:rPr>
              <a:t>Liz Walsh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66"/>
                </a:solidFill>
                <a:latin typeface="BTMedium"/>
              </a:rPr>
              <a:t>This presentation provides an overview for Communication Providers on the continuing Migration Command &amp; Control consultation following the conclusion of the Requirements Capture Phase</a:t>
            </a:r>
            <a:endParaRPr b="0" lang="en-US" sz="20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8FDB3-0A64-4E4A-B6FD-DA5330DB17A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1413000"/>
            <a:ext cx="2448000" cy="316836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3168360"/>
              <a:gd name="textAreaBottom" fmla="*/ 3168720 h 31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84360" y="1413000"/>
            <a:ext cx="3456000" cy="576000"/>
          </a:xfrm>
          <a:custGeom>
            <a:avLst/>
            <a:gdLst>
              <a:gd name="textAreaLeft" fmla="*/ 0 w 3456000"/>
              <a:gd name="textAreaRight" fmla="*/ 3456360 w 345600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7280" y="2060640"/>
            <a:ext cx="3456000" cy="576360"/>
          </a:xfrm>
          <a:custGeom>
            <a:avLst/>
            <a:gdLst>
              <a:gd name="textAreaLeft" fmla="*/ 0 w 3456000"/>
              <a:gd name="textAreaRight" fmla="*/ 3456360 w 34560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00360" y="2708280"/>
            <a:ext cx="3456000" cy="576360"/>
          </a:xfrm>
          <a:custGeom>
            <a:avLst/>
            <a:gdLst>
              <a:gd name="textAreaLeft" fmla="*/ 0 w 3456000"/>
              <a:gd name="textAreaRight" fmla="*/ 3456360 w 345600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56000" y="3357720"/>
            <a:ext cx="3456000" cy="576000"/>
          </a:xfrm>
          <a:custGeom>
            <a:avLst/>
            <a:gdLst>
              <a:gd name="textAreaLeft" fmla="*/ 0 w 3456000"/>
              <a:gd name="textAreaRight" fmla="*/ 3456360 w 345600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2060640"/>
            <a:ext cx="2160720" cy="252072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2520720"/>
              <a:gd name="textAreaBottom" fmla="*/ 252108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92720" y="1413000"/>
            <a:ext cx="3456000" cy="576000"/>
          </a:xfrm>
          <a:custGeom>
            <a:avLst/>
            <a:gdLst>
              <a:gd name="textAreaLeft" fmla="*/ 0 w 3456000"/>
              <a:gd name="textAreaRight" fmla="*/ 3456360 w 345600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noFill/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1844640"/>
            <a:ext cx="1800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4c"/>
                </a:solidFill>
                <a:latin typeface="Arial"/>
              </a:rPr>
              <a:t>Requirements Capture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4c"/>
                </a:solidFill>
                <a:latin typeface="Arial"/>
              </a:rPr>
              <a:t>CONCLUDED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19280" y="44928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e4c"/>
                </a:solidFill>
                <a:latin typeface="BTMedium"/>
              </a:rPr>
              <a:t>May 06</a:t>
            </a:r>
            <a:endParaRPr b="0" lang="en-US" sz="14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-181080" y="449280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e4c"/>
                </a:solidFill>
                <a:latin typeface="BTMedium"/>
              </a:rPr>
              <a:t>Jan 06</a:t>
            </a:r>
            <a:endParaRPr b="0" lang="en-US" sz="14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4724280"/>
            <a:ext cx="223200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marL="88920" indent="-88920">
              <a:spcBef>
                <a:spcPts val="876"/>
              </a:spcBef>
              <a:buClr>
                <a:srgbClr val="003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e4c"/>
                </a:solidFill>
                <a:latin typeface="Arial"/>
              </a:rPr>
              <a:t>2 multi-lateral workshops</a:t>
            </a:r>
            <a:endParaRPr b="0" lang="en-US" sz="1400" spc="-1" strike="noStrike">
              <a:solidFill>
                <a:srgbClr val="003e4c"/>
              </a:solidFill>
              <a:latin typeface="Arial"/>
            </a:endParaRPr>
          </a:p>
          <a:p>
            <a:pPr lvl="1" marL="458640" indent="-190440">
              <a:lnSpc>
                <a:spcPct val="100000"/>
              </a:lnSpc>
              <a:spcBef>
                <a:spcPts val="876"/>
              </a:spcBef>
              <a:buClr>
                <a:srgbClr val="003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e4c"/>
                </a:solidFill>
                <a:latin typeface="Arial"/>
              </a:rPr>
              <a:t>17/01/06</a:t>
            </a:r>
            <a:endParaRPr b="0" lang="en-US" sz="1400" spc="-1" strike="noStrike">
              <a:solidFill>
                <a:srgbClr val="003e4c"/>
              </a:solidFill>
              <a:latin typeface="Arial"/>
            </a:endParaRPr>
          </a:p>
          <a:p>
            <a:pPr lvl="1" marL="458640" indent="-190440">
              <a:lnSpc>
                <a:spcPct val="100000"/>
              </a:lnSpc>
              <a:spcBef>
                <a:spcPts val="876"/>
              </a:spcBef>
              <a:buClr>
                <a:srgbClr val="003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e4c"/>
                </a:solidFill>
                <a:latin typeface="Arial"/>
              </a:rPr>
              <a:t>14/03/06</a:t>
            </a:r>
            <a:endParaRPr b="0" lang="en-US" sz="1400" spc="-1" strike="noStrike">
              <a:solidFill>
                <a:srgbClr val="003e4c"/>
              </a:solidFill>
              <a:latin typeface="Arial"/>
            </a:endParaRPr>
          </a:p>
          <a:p>
            <a:pPr marL="88920" indent="-88920">
              <a:spcBef>
                <a:spcPts val="876"/>
              </a:spcBef>
              <a:buClr>
                <a:srgbClr val="003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e4c"/>
                </a:solidFill>
                <a:latin typeface="Arial"/>
              </a:rPr>
              <a:t>Formal Consultation (04/04/06 – 26/04/06</a:t>
            </a:r>
            <a:endParaRPr b="0" lang="en-US" sz="1400" spc="-1" strike="noStrike">
              <a:solidFill>
                <a:srgbClr val="003e4c"/>
              </a:solidFill>
              <a:latin typeface="Arial"/>
            </a:endParaRPr>
          </a:p>
          <a:p>
            <a:pPr marL="88920" indent="-88920">
              <a:spcBef>
                <a:spcPts val="876"/>
              </a:spcBef>
              <a:buClr>
                <a:srgbClr val="003e4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56360" y="1484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4c"/>
                </a:solidFill>
                <a:latin typeface="Arial"/>
              </a:rPr>
              <a:t>War gaming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227640" y="270828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4c"/>
                </a:solidFill>
                <a:latin typeface="Arial"/>
              </a:rPr>
              <a:t>Implementation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974880"/>
            <a:ext cx="23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4c"/>
                </a:solidFill>
                <a:latin typeface="Arial"/>
              </a:rPr>
              <a:t>PHASE 1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16360" y="97488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4c"/>
                </a:solidFill>
                <a:latin typeface="Arial"/>
              </a:rPr>
              <a:t>PHASE 2 - OPEN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03640" y="4492800"/>
            <a:ext cx="151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e4c"/>
                </a:solidFill>
                <a:latin typeface="BTMedium"/>
              </a:rPr>
              <a:t>July 06</a:t>
            </a:r>
            <a:endParaRPr b="0" lang="en-US" sz="14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80000" y="98100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4c"/>
                </a:solidFill>
                <a:latin typeface="Arial"/>
              </a:rPr>
              <a:t>PHASE 3 - PLANNED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560" y="188640"/>
            <a:ext cx="8545320" cy="921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Migration Command &amp; Control:</a:t>
            </a:r>
            <a:br>
              <a:rPr sz="3200"/>
            </a:b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Consultation Framework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64" name=""/>
          <p:cNvSpPr/>
          <p:nvPr/>
        </p:nvSpPr>
        <p:spPr>
          <a:xfrm>
            <a:off x="3498840" y="5321160"/>
            <a:ext cx="12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84360" y="4005360"/>
            <a:ext cx="3456000" cy="576000"/>
          </a:xfrm>
          <a:custGeom>
            <a:avLst/>
            <a:gdLst>
              <a:gd name="textAreaLeft" fmla="*/ 0 w 3456000"/>
              <a:gd name="textAreaRight" fmla="*/ 3456360 w 345600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cccc00"/>
          </a:solidFill>
          <a:ln w="9360">
            <a:solidFill>
              <a:srgbClr val="003e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3640" y="393372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4c"/>
                </a:solidFill>
                <a:latin typeface="Arial"/>
              </a:rPr>
              <a:t>War game development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335772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4c"/>
                </a:solidFill>
                <a:latin typeface="Arial"/>
              </a:rPr>
              <a:t>Systems &amp; Measurement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48000" y="2703600"/>
            <a:ext cx="223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e4c"/>
                </a:solidFill>
                <a:latin typeface="Arial"/>
              </a:rPr>
              <a:t>Fault Diagnostics &amp; Service Management</a:t>
            </a:r>
            <a:endParaRPr b="0" lang="en-US" sz="16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48000" y="20606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e4c"/>
                </a:solidFill>
                <a:latin typeface="Arial"/>
              </a:rPr>
              <a:t>Fallback Criteria &amp; Go/No Go criteria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48000" y="141912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e4c"/>
                </a:solidFill>
                <a:latin typeface="Arial"/>
              </a:rPr>
              <a:t>Scheduling &amp; PEWs</a:t>
            </a:r>
            <a:endParaRPr b="0" lang="en-US" sz="18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87640" y="4724280"/>
            <a:ext cx="223200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90000" tIns="46800" bIns="46800" anchor="t">
            <a:spAutoFit/>
          </a:bodyPr>
          <a:p>
            <a:pPr marL="177840" indent="-1778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e4c"/>
                </a:solidFill>
                <a:latin typeface="Arial"/>
              </a:rPr>
              <a:t>Approach:</a:t>
            </a:r>
            <a:endParaRPr b="0" lang="en-US" sz="1400" spc="-1" strike="noStrike">
              <a:solidFill>
                <a:srgbClr val="003e4c"/>
              </a:solidFill>
              <a:latin typeface="Arial"/>
            </a:endParaRPr>
          </a:p>
          <a:p>
            <a:pPr marL="177840" indent="-177840">
              <a:spcBef>
                <a:spcPts val="876"/>
              </a:spcBef>
              <a:buClr>
                <a:srgbClr val="003e4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e4c"/>
                </a:solidFill>
                <a:latin typeface="Arial"/>
              </a:rPr>
              <a:t>multi-lateral workshops for each area</a:t>
            </a:r>
            <a:endParaRPr b="0" lang="en-US" sz="1400" spc="-1" strike="noStrike">
              <a:solidFill>
                <a:srgbClr val="003e4c"/>
              </a:solidFill>
              <a:latin typeface="Arial"/>
            </a:endParaRPr>
          </a:p>
          <a:p>
            <a:pPr marL="177840" indent="-177840">
              <a:spcBef>
                <a:spcPts val="876"/>
              </a:spcBef>
              <a:buClr>
                <a:srgbClr val="003e4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e4c"/>
                </a:solidFill>
                <a:latin typeface="Arial"/>
              </a:rPr>
              <a:t>BT Proposal published post workshop for formal consultation</a:t>
            </a:r>
            <a:endParaRPr b="0" lang="en-US" sz="1400" spc="-1" strike="noStrike">
              <a:solidFill>
                <a:srgbClr val="003e4c"/>
              </a:solidFill>
              <a:latin typeface="Arial"/>
            </a:endParaRPr>
          </a:p>
          <a:p>
            <a:pPr marL="177840" indent="-177840">
              <a:spcBef>
                <a:spcPts val="876"/>
              </a:spcBef>
              <a:buClr>
                <a:srgbClr val="003e4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80360" y="450864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e4c"/>
                </a:solidFill>
                <a:latin typeface="BTMedium"/>
              </a:rPr>
              <a:t>Nov 06</a:t>
            </a:r>
            <a:endParaRPr b="0" lang="en-US" sz="1400" spc="-1" strike="noStrike">
              <a:solidFill>
                <a:srgbClr val="003e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815F9-46AB-4184-9371-9424032A3E6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Consultation Timeline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BTMedium"/>
              </a:rPr>
              <a:t>Scheduling &amp; PEWs:</a:t>
            </a:r>
            <a:endParaRPr b="0" lang="en-US" sz="18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7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Multilateral Workshop 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18/05/06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7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BT Proposal Issued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02/06/06 (Consultation opens)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7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Consultation Closes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23/06/06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7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Closure Report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05/07/06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BTMedium"/>
              </a:rPr>
              <a:t>Fallback Criteria &amp; Go/No Go Criteria</a:t>
            </a:r>
            <a:endParaRPr b="0" lang="en-US" sz="18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7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Multilateral Workshop 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23/05/06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7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BT Proposal Issued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09/06/06 (Consultation opens)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7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Consultation Closes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30/06/06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7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Closure Report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12/07/06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7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BTMedium"/>
              </a:rPr>
              <a:t>Fault Diagnostics &amp; Service Management (during End Customer Migration)</a:t>
            </a:r>
            <a:endParaRPr b="0" lang="en-US" sz="18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7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Multilateral Workshop 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24/05/06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7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BT Proposal Issued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09/06/06 (Consultation opens)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7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Consultation Closes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30/06/06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70000"/>
              </a:lnSpc>
              <a:spcBef>
                <a:spcPts val="799"/>
              </a:spcBef>
              <a:spcAft>
                <a:spcPts val="400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Closure Report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	</a:t>
            </a:r>
            <a:r>
              <a:rPr b="0" lang="en-GB" sz="1600" spc="-1" strike="noStrike">
                <a:solidFill>
                  <a:srgbClr val="003366"/>
                </a:solidFill>
                <a:latin typeface="BTMedium"/>
              </a:rPr>
              <a:t>12/07/06</a:t>
            </a: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0">
              <a:lnSpc>
                <a:spcPct val="7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227AD-C6CE-4F24-8DFD-F70173C863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45320" cy="50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BTExtraBold"/>
              </a:rPr>
              <a:t>To be confirmed:</a:t>
            </a:r>
            <a:endParaRPr b="1" lang="en-US" sz="3200" spc="-1" strike="noStrike">
              <a:solidFill>
                <a:srgbClr val="99cc00"/>
              </a:solidFill>
              <a:latin typeface="BTExtra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36240" y="1200240"/>
            <a:ext cx="8537400" cy="5060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War gaming Workshop – anticipated mid July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marL="1746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BTMedium"/>
              </a:rPr>
              <a:t>Systems and Measurement – anticipated mid/late July</a:t>
            </a:r>
            <a:endParaRPr b="0" lang="en-US" sz="2400" spc="-1" strike="noStrike">
              <a:solidFill>
                <a:srgbClr val="003366"/>
              </a:solidFill>
              <a:latin typeface="BTMedium"/>
            </a:endParaRPr>
          </a:p>
          <a:p>
            <a:pPr lvl="1" marL="608040" indent="-254160">
              <a:lnSpc>
                <a:spcPct val="90000"/>
              </a:lnSpc>
              <a:spcBef>
                <a:spcPts val="1001"/>
              </a:spcBef>
              <a:spcAft>
                <a:spcPts val="499"/>
              </a:spcAft>
              <a:buClr>
                <a:srgbClr val="0033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BTMedium"/>
              </a:rPr>
              <a:t>Focus on measuring individual migrations</a:t>
            </a:r>
            <a:endParaRPr b="0" lang="en-US" sz="2000" spc="-1" strike="noStrike">
              <a:solidFill>
                <a:srgbClr val="003366"/>
              </a:solidFill>
              <a:latin typeface="BT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134DA-A0B4-4AF7-90AD-CDD1AE556F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9T15:16:23Z</dcterms:created>
  <dc:creator>British Telecom</dc:creator>
  <dc:description/>
  <dc:language>en-US</dc:language>
  <cp:lastModifiedBy>British Telecom</cp:lastModifiedBy>
  <dcterms:modified xsi:type="dcterms:W3CDTF">2006-05-15T09:47:37Z</dcterms:modified>
  <cp:revision>119</cp:revision>
  <dc:subject/>
  <dc:title>C21 Co-chair eve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35383022</vt:r8>
  </property>
  <property fmtid="{D5CDD505-2E9C-101B-9397-08002B2CF9AE}" pid="3" name="_AuthorEmail">
    <vt:lpwstr>liz.e.walsh@bt.com</vt:lpwstr>
  </property>
  <property fmtid="{D5CDD505-2E9C-101B-9397-08002B2CF9AE}" pid="4" name="_AuthorEmailDisplayName">
    <vt:lpwstr>Walsh,E,Liz,NUQ4 WALSHE R</vt:lpwstr>
  </property>
  <property fmtid="{D5CDD505-2E9C-101B-9397-08002B2CF9AE}" pid="5" name="_EmailSubject">
    <vt:lpwstr>Consult21: Implementation &amp; Migration WG - Migration Command &amp; Control (Scheduling &amp; PEWs Workshop)</vt:lpwstr>
  </property>
</Properties>
</file>