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Click to move the slide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8646-3C7D-4FFE-A547-95174FE52B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323E-F239-4CA3-A46C-07FA34BAB4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E9E5-3CAB-4944-BCBF-15329787B4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87CC-95B0-4F83-A48A-A85C6ED209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0876-DEB4-40CA-AA4C-CCC1F6FAB4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270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5C15-B077-4011-B6B5-47AD83A862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270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20202-4846-46EF-A974-C137B8160E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240" y="3843720"/>
            <a:ext cx="853740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E6D0E-19E5-4A21-8B5D-F052EF3AD4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6240" y="384372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0960" y="384372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CC88D-C8B7-4210-BB94-11E73E17E2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23080" y="120024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9920" y="120024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36240" y="384372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23080" y="384372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9920" y="384372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EAE36-E779-4B98-891E-7F53B47D18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E30D7-BF05-414F-A4BB-F5BE20EABB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125FF-CD13-4AD1-8CE0-AC64388FFB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1C775-9234-48F9-A66B-3FEDEF0AC9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A4F98-B18E-4A26-A20E-028A1A3933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453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C736C-AF4C-4CD1-919D-736CE62B78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36240" y="384372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84EA4-A3D8-423E-8153-6A6A749638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0960" y="384372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FC940-BC17-49CA-9D51-B6988AF94D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36240" y="3843720"/>
            <a:ext cx="853740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2723D-9393-4BE0-86BB-7A58F478ED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Click to edit the title text format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1" marL="174600" indent="-174600">
              <a:lnSpc>
                <a:spcPct val="90000"/>
              </a:lnSpc>
              <a:spcBef>
                <a:spcPts val="18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2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3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Fourth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4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Fifth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5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Sixth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6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Seventh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50760"/>
            <a:ext cx="9016920" cy="6756480"/>
          </a:xfrm>
          <a:prstGeom prst="rect">
            <a:avLst/>
          </a:prstGeom>
          <a:noFill/>
          <a:ln w="136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79880" y="627840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03840" y="6235560"/>
            <a:ext cx="13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4bc"/>
                </a:solidFill>
                <a:latin typeface="BTExtraBold"/>
              </a:rPr>
              <a:t>Consult21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244000" y="6308640"/>
            <a:ext cx="5140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A442-E2D1-4DE7-AA6D-12FDC67D437D}" type="slidenum">
              <a:rPr b="0" lang="en-US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251000" y="6324480"/>
            <a:ext cx="660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BTMedium"/>
              </a:rPr>
              <a:t>Information is subject to change and is for discussion purposes only. 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BTMedium"/>
              </a:rPr>
              <a:t>Any dates/timings are the current anticipated timescales and may be subject to change.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50920" y="6453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e4c"/>
                </a:solidFill>
                <a:latin typeface="Arial"/>
              </a:rPr>
              <a:t>I&amp;M WG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918560" cy="174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cc00"/>
                </a:solidFill>
                <a:latin typeface="BTExtraBold"/>
              </a:rPr>
              <a:t>Migration Command &amp; Control:</a:t>
            </a:r>
            <a:br>
              <a:rPr sz="3200"/>
            </a:br>
            <a:r>
              <a:rPr b="1" lang="en-GB" sz="3200" spc="-1" strike="noStrike">
                <a:solidFill>
                  <a:srgbClr val="99cc00"/>
                </a:solidFill>
                <a:latin typeface="BTExtraBold"/>
              </a:rPr>
              <a:t>Go/No GO &amp; Fallback Criteria</a:t>
            </a:r>
            <a:br>
              <a:rPr sz="3200"/>
            </a:br>
            <a:r>
              <a:rPr b="1" lang="en-GB" sz="3200" spc="-1" strike="noStrike">
                <a:solidFill>
                  <a:srgbClr val="99cc00"/>
                </a:solidFill>
                <a:latin typeface="BTExtraBold"/>
              </a:rPr>
              <a:t>Thoughts on principles</a:t>
            </a:r>
            <a:br>
              <a:rPr sz="3200"/>
            </a:br>
            <a:r>
              <a:rPr b="1" lang="en-GB" sz="3200" spc="-1" strike="noStrike">
                <a:solidFill>
                  <a:srgbClr val="003e4c"/>
                </a:solidFill>
                <a:latin typeface="BTExtraBold"/>
              </a:rPr>
              <a:t>Ian Pomford &amp; Alan Turner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BTMedium"/>
              </a:rPr>
              <a:t>This presentation provides some simple principles and thoughts by BT Wholesale for discussion with Communication Providers to facilitate the development by BTW of a proposal to define Go/No Go and Fallback criteria initially for Pathfinder and subsequently (subject to review) for Mass Migration</a:t>
            </a:r>
            <a:endParaRPr b="0" lang="en-US" sz="20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6ACA8-DE9B-4A57-BDEC-7FC035A13D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549360"/>
            <a:ext cx="3166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Font typeface="BTMediu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545320" cy="92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Management of the Go/No go &amp; fallback:</a:t>
            </a:r>
            <a:br>
              <a:rPr sz="3200"/>
            </a:b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National Network Management Centre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Unique Overview of the Network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Experienced in managing Network migrations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Responsible for Serious Incident Management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3024000" cy="2519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419640" y="1125360"/>
            <a:ext cx="4321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826BA-DE63-4931-A8B8-4A63B80DD4B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68360" y="549360"/>
            <a:ext cx="3166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Font typeface="BTMediu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545320" cy="45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BTExtraBold"/>
              </a:rPr>
              <a:t>Prior to “On the Night” Migration</a:t>
            </a:r>
            <a:endParaRPr b="1" lang="en-US" sz="28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Quality Gate - Status of 21CN Network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Quality Gate - Status of existing Network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Change Control/Planned Works Process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Have been enacted</a:t>
            </a:r>
            <a:endParaRPr b="0" lang="en-US" sz="20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Identification of Critical Numbers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Real Time Contingency Planning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In place</a:t>
            </a:r>
            <a:endParaRPr b="0" lang="en-US" sz="20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C8AA0-4AAC-42C9-9171-5C835B0A102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549360"/>
            <a:ext cx="3166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Font typeface="BTMediu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404640"/>
            <a:ext cx="338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Prior to Go/No GO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Final SIT-Rep from NM teams - 20CN/21CN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Health of the Network/ External Events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Critical number activity/Network Monitoring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Process in place and operational</a:t>
            </a:r>
            <a:endParaRPr b="0" lang="en-US" sz="20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Decision to Migrate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8BF14-1EFB-444B-89D1-3A7A424BEAA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09480" y="3049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Fallback Governance - Progress as at 23rd May 06</a:t>
            </a:r>
            <a:endParaRPr b="0" lang="en-US" sz="3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3640" y="1562040"/>
            <a:ext cx="7940880" cy="46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Project scope agreed</a:t>
            </a: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: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Broadband 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Voice services including ISDN2/30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3366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Lead Designer in place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3366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Resource agreed - Project team being assembled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3e4c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e4c"/>
                </a:solidFill>
                <a:latin typeface="BTMedium"/>
              </a:rPr>
              <a:t>Requirements in place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e4c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e4c"/>
                </a:solidFill>
                <a:latin typeface="BTMedium"/>
              </a:rPr>
              <a:t>Product Initiation Document issued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e4c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e4c"/>
                </a:solidFill>
                <a:latin typeface="BTMedium"/>
              </a:rPr>
              <a:t>Project plan in place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e4c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e4c"/>
                </a:solidFill>
                <a:latin typeface="BTMedium"/>
              </a:rPr>
              <a:t>Timescales understood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AADAF-77C5-4F1B-8891-A58EC722AE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8600" y="1371600"/>
            <a:ext cx="8686800" cy="4648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1676520"/>
            <a:ext cx="1981440" cy="388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676520"/>
            <a:ext cx="1447920" cy="3886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2209680"/>
            <a:ext cx="11430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e4c"/>
                </a:solidFill>
                <a:latin typeface="Arial"/>
              </a:rPr>
              <a:t>Criteria</a:t>
            </a:r>
            <a:endParaRPr b="0" lang="en-US" sz="16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5029200"/>
            <a:ext cx="11430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e4c"/>
                </a:solidFill>
                <a:latin typeface="Arial"/>
              </a:rPr>
              <a:t>Measures</a:t>
            </a:r>
            <a:endParaRPr b="0" lang="en-US" sz="16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05520" y="4952880"/>
            <a:ext cx="17524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e4c"/>
                </a:solidFill>
                <a:latin typeface="Arial"/>
              </a:rPr>
              <a:t>Communication</a:t>
            </a:r>
            <a:endParaRPr b="0" lang="en-US" sz="16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2209680"/>
            <a:ext cx="16761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e4c"/>
                </a:solidFill>
                <a:latin typeface="Arial"/>
              </a:rPr>
              <a:t>Decision</a:t>
            </a:r>
            <a:endParaRPr b="0" lang="en-US" sz="16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2666880" y="2742840"/>
            <a:ext cx="1676520" cy="2133720"/>
          </a:xfrm>
          <a:prstGeom prst="can">
            <a:avLst>
              <a:gd name="adj" fmla="val 22467"/>
            </a:avLst>
          </a:prstGeom>
          <a:solidFill>
            <a:srgbClr val="ff9999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e4c"/>
                </a:solidFill>
                <a:latin typeface="Arial"/>
              </a:rPr>
              <a:t>Fallback 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e4c"/>
                </a:solidFill>
                <a:latin typeface="Arial"/>
              </a:rPr>
              <a:t>Governance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7524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e4c"/>
                </a:solidFill>
                <a:latin typeface="Arial"/>
              </a:rPr>
              <a:t>Inputs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1752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e4c"/>
                </a:solidFill>
                <a:latin typeface="Arial"/>
              </a:rPr>
              <a:t>Outputs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3581280"/>
            <a:ext cx="1143000" cy="486000"/>
          </a:xfrm>
          <a:prstGeom prst="rightArrow">
            <a:avLst>
              <a:gd name="adj1" fmla="val 56861"/>
              <a:gd name="adj2" fmla="val 149604"/>
            </a:avLst>
          </a:prstGeom>
          <a:solidFill>
            <a:srgbClr val="ff66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 rot="16200000">
            <a:off x="1371600" y="2360880"/>
            <a:ext cx="990360" cy="1905120"/>
          </a:xfrm>
          <a:custGeom>
            <a:avLst/>
            <a:gdLst>
              <a:gd name="textAreaLeft" fmla="*/ 329760 w 990360"/>
              <a:gd name="textAreaRight" fmla="*/ 848160 w 990360"/>
              <a:gd name="textAreaTop" fmla="*/ 1405080 h 1905120"/>
              <a:gd name="textAreaBottom" fmla="*/ 163188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9031"/>
                </a:moveTo>
                <a:lnTo>
                  <a:pt x="15931" y="19031"/>
                </a:lnTo>
                <a:lnTo>
                  <a:pt x="15931" y="7200"/>
                </a:lnTo>
                <a:lnTo>
                  <a:pt x="12831" y="7200"/>
                </a:lnTo>
                <a:lnTo>
                  <a:pt x="17216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rot="5400000">
            <a:off x="1402560" y="3383640"/>
            <a:ext cx="928800" cy="1905120"/>
          </a:xfrm>
          <a:custGeom>
            <a:avLst/>
            <a:gdLst>
              <a:gd name="textAreaLeft" fmla="*/ 309600 w 928800"/>
              <a:gd name="textAreaRight" fmla="*/ 795600 w 928800"/>
              <a:gd name="textAreaTop" fmla="*/ 1405080 h 1905120"/>
              <a:gd name="textAreaBottom" fmla="*/ 163188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9031"/>
                </a:moveTo>
                <a:lnTo>
                  <a:pt x="15931" y="19031"/>
                </a:lnTo>
                <a:lnTo>
                  <a:pt x="15931" y="7200"/>
                </a:lnTo>
                <a:lnTo>
                  <a:pt x="12831" y="7200"/>
                </a:lnTo>
                <a:lnTo>
                  <a:pt x="17216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 rot="16200000">
            <a:off x="6324480" y="2360880"/>
            <a:ext cx="990360" cy="1905120"/>
          </a:xfrm>
          <a:custGeom>
            <a:avLst/>
            <a:gdLst>
              <a:gd name="textAreaLeft" fmla="*/ 329760 w 990360"/>
              <a:gd name="textAreaRight" fmla="*/ 848160 w 990360"/>
              <a:gd name="textAreaTop" fmla="*/ 1405080 h 1905120"/>
              <a:gd name="textAreaBottom" fmla="*/ 163188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9031"/>
                </a:moveTo>
                <a:lnTo>
                  <a:pt x="15931" y="19031"/>
                </a:lnTo>
                <a:lnTo>
                  <a:pt x="15931" y="7200"/>
                </a:lnTo>
                <a:lnTo>
                  <a:pt x="12831" y="7200"/>
                </a:lnTo>
                <a:lnTo>
                  <a:pt x="17216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rot="5400000">
            <a:off x="6355440" y="3383640"/>
            <a:ext cx="928800" cy="1905120"/>
          </a:xfrm>
          <a:custGeom>
            <a:avLst/>
            <a:gdLst>
              <a:gd name="textAreaLeft" fmla="*/ 309600 w 928800"/>
              <a:gd name="textAreaRight" fmla="*/ 795600 w 928800"/>
              <a:gd name="textAreaTop" fmla="*/ 1405080 h 1905120"/>
              <a:gd name="textAreaBottom" fmla="*/ 163188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9031"/>
                </a:moveTo>
                <a:lnTo>
                  <a:pt x="15931" y="19031"/>
                </a:lnTo>
                <a:lnTo>
                  <a:pt x="15931" y="7200"/>
                </a:lnTo>
                <a:lnTo>
                  <a:pt x="12831" y="7200"/>
                </a:lnTo>
                <a:lnTo>
                  <a:pt x="17216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848720" y="1676520"/>
            <a:ext cx="914400" cy="3886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e4c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e4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e4c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e4c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e4c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e4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e4c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e4c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Fallback Governance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BF44B-0C48-4E98-94A1-CB7424B372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545320" cy="45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BTExtraBold"/>
              </a:rPr>
              <a:t>Constituent elements of Fallback Governance</a:t>
            </a:r>
            <a:endParaRPr b="1" lang="en-US" sz="28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85" name=""/>
          <p:cNvSpPr/>
          <p:nvPr/>
        </p:nvSpPr>
        <p:spPr>
          <a:xfrm>
            <a:off x="33660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 marL="174600" indent="-174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Criteria  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Strong linkage to Go/No-Go criteria i.e. continued monitoring through transfer period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Assessment being made of current incident criteria for 20CN and 21CN Trials 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Criteria and thresholds are likely to be different during the transfer period - need to conduct gap analysis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Must accommodate ‘Graceful’ Fallback and Emergency Fallback 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Input from requirements stack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192D5-C3B2-4247-B9C6-3C5AD167B0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545320" cy="45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BTExtraBold"/>
              </a:rPr>
              <a:t>Constituent elements of Fallback Governance</a:t>
            </a:r>
            <a:endParaRPr b="1" lang="en-US" sz="28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87" name=""/>
          <p:cNvSpPr/>
          <p:nvPr/>
        </p:nvSpPr>
        <p:spPr>
          <a:xfrm>
            <a:off x="33660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 marL="174600" indent="-174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Measures and monitoring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What are the key measures? 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What are the thresholds?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Who produces the data and with what frequency?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Governance &amp; Decision Making  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Key players that make the fallback decision.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Availability of the key players e.g. 24 x 7 rotas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Channels and protocols for making the decision e.g. conference bridges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C7E68-9709-411E-99A0-1CD4E6DD49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545320" cy="45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BTExtraBold"/>
              </a:rPr>
              <a:t>Constituent elements of Fallback Governance</a:t>
            </a:r>
            <a:endParaRPr b="1" lang="en-US" sz="28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89" name=""/>
          <p:cNvSpPr/>
          <p:nvPr/>
        </p:nvSpPr>
        <p:spPr>
          <a:xfrm>
            <a:off x="33660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 marL="174600" indent="-174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Communications 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For Internal and External Communications - need to establish: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Format/content of the communications that are sent out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Agreed list of recipients (distribution list) 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Frequency and means of distribution 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Agreed reference points for further information</a:t>
            </a:r>
            <a:r>
              <a:rPr b="0" lang="en-US" sz="2000" spc="-1" strike="noStrike">
                <a:solidFill>
                  <a:srgbClr val="003e4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Ground rules: 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1500"/>
              </a:spcBef>
              <a:buClr>
                <a:srgbClr val="003366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Use Business as usual processes either in part or in whole as much as possible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1500"/>
              </a:spcBef>
              <a:buClr>
                <a:srgbClr val="003366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Explore systems opportunities to manage data through MCC especially in the area of measures and thresholds.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13C09-3080-4129-8714-503E15B881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9T15:16:23Z</dcterms:created>
  <dc:creator>British Telecom</dc:creator>
  <dc:description/>
  <dc:language>en-US</dc:language>
  <cp:lastModifiedBy>British Telecom</cp:lastModifiedBy>
  <cp:lastPrinted>2006-05-19T07:55:06Z</cp:lastPrinted>
  <dcterms:modified xsi:type="dcterms:W3CDTF">2006-05-23T12:29:12Z</dcterms:modified>
  <cp:revision>117</cp:revision>
  <dc:subject/>
  <dc:title>C21 Co-chair ev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74965384</vt:r8>
  </property>
  <property fmtid="{D5CDD505-2E9C-101B-9397-08002B2CF9AE}" pid="3" name="_AuthorEmail">
    <vt:lpwstr>liz.e.walsh@bt.com</vt:lpwstr>
  </property>
  <property fmtid="{D5CDD505-2E9C-101B-9397-08002B2CF9AE}" pid="4" name="_AuthorEmailDisplayName">
    <vt:lpwstr>Walsh,E,Liz,NKR2 R</vt:lpwstr>
  </property>
  <property fmtid="{D5CDD505-2E9C-101B-9397-08002B2CF9AE}" pid="5" name="_EmailSubject">
    <vt:lpwstr>Consult21: Implementation &amp; Migration WG - Migration Command &amp; Control (Go/No Go &amp; fallback Criteria Workshop)</vt:lpwstr>
  </property>
</Properties>
</file>